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7EF-DE8B-4928-979B-48542C65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ADF-9B99-4DE8-9A3A-1F2DB1F2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164-7A18-441E-AA4C-1BB168BF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635-DC23-4DC8-8671-6B3133B8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206-41BB-41EB-BAB2-78F64C1C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68C-7F9F-44D4-9994-E39C7B40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E84-6CD9-42EC-80B8-00C9AC1A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F55-EE91-49A7-B09C-73F97B77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B81-BC80-4900-B8F8-05E49726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161F-93BA-4DF4-B72B-B82899DE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4CF-EE14-439C-8152-200D851B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287-0F5B-4F37-B8F5-8684157D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E4EF-596D-4485-94B0-9AC7974C0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0000"/>
                </a:solidFill>
                <a:latin typeface="Arial"/>
              </a:rPr>
              <a:t>My Personal Learning Profile by la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0"/>
            <a:ext cx="76197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Arial"/>
              </a:rPr>
              <a:t>My learning style i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auditory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568960"/>
            <a:ext cx="4114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600" spc="-1" strike="noStrike">
                <a:solidFill>
                  <a:srgbClr val="000000"/>
                </a:solidFill>
                <a:latin typeface="Arial"/>
              </a:rPr>
              <a:t>This means that I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learn best by he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Arial"/>
              </a:rPr>
              <a:t>My learning technique is 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abs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5:40:10Z</dcterms:created>
  <dc:creator>dharan albuoy</dc:creator>
  <dc:description/>
  <dc:language>en-US</dc:language>
  <cp:lastModifiedBy>dharan albuoy</cp:lastModifiedBy>
  <dcterms:modified xsi:type="dcterms:W3CDTF">2010-11-03T15:56:32Z</dcterms:modified>
  <cp:revision>2</cp:revision>
  <dc:subject/>
  <dc:title>Slide 1</dc:title>
</cp:coreProperties>
</file>